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9755-0613-41A2-A127-B6CB1645B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A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most common type of monozygotic twinning, with division of the inner cell mass of the blastocyst resulting in separate amnions but a single chorion and placenta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B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rare form of monozygotic twinning, with complete division of the embryonic disc resulting in two embryos in a single amniotic sac with a single placenta and chorionic sac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C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nozygotic twinning with division occurring between the two-cell and morula stages to produce identical blastocysts, resulting in separate amniotic and chorionic sacs and either separa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show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fused placentas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,E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zygotic twinning, wi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withou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usion of the placenta and chori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acopagus:connected at the upper portion of the torso, share a heart, which makes it nearly impossible to separate them and save them both. Thoracopagus twins make up about 40 percent of all conjoined c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A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most common type of monozygotic twinning, with division of the inner cell mass of the blastocyst resulting in separate amnions but a single chorion and placenta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B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rare form of monozygotic twinning, with complete division of the embryonic disc resulting in two embryos in a single amniotic sac with a single placenta and chorionic sac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C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nozygotic twinning with division occurring between the two-cell and morula stages to produce identical blastocysts, resulting in separate amniotic and chorionic sacs and either separa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show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fused placentas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,E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zygotic twinning, wi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withou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usion of the placenta and chori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early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4FA-8CB8-4FA4-8301-3B140178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B14-B321-4F8E-B72B-D07EABC1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EC2-D2E2-4CB8-ADEB-386498AD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1B91-6830-49E7-8E72-D650B757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EA27-D1D3-4D96-94BF-545843D8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BE8E-3982-4078-A5D7-702884CE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BF61-1ED7-49C9-A619-6E29D814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5A2C-E703-450B-B258-E1AF3AA2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9E69-3C12-4288-B9C4-281D7F1D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E8C7-085E-4FB9-8318-D165B6DE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3D6B-C7F9-475F-9736-12BA6733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9158-F67E-43D9-BE25-5C747497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1C68-168C-48BB-B5B1-12600DB6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7A62-2C51-4FE5-9CB4-F556713D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DDC0-CB2B-4C99-A671-ECAD0770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CCE7-EF15-4811-B00F-3631440E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3C14-9AB5-4702-8B27-C7396BD7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D2C-CFC9-45F8-8D4C-87C1335B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CEF8-5E59-4E02-8B2A-1CD5D3B9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BE5E-9182-47DD-AB09-3456A75A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654-353C-4636-9A15-096C9D38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F8D-979E-43A5-9A9A-0868A7C6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0A7-92A2-47CC-ACB5-DE8B359D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D566-4E21-41CA-8399-3EF8055F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7723-97F5-4E8A-BA18-046C649AFD2B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419F-6296-4D4A-BF1D-0492746CEF1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surry.k12.nc.us/nshs/mtrail/Famous%20People.htm" TargetMode="External"/><Relationship Id="rId4" Type="http://schemas.openxmlformats.org/officeDocument/2006/relationships/hyperlink" Target="http://www.surry.k12.nc.us/nshs/mtrail/index.htm" TargetMode="External"/><Relationship Id="rId5" Type="http://schemas.openxmlformats.org/officeDocument/2006/relationships/hyperlink" Target="http://en.wikipedia.org/wiki/Image:Abby_and_Britty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GES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-2065" t="20092" r="2661" b="64959"/>
          <a:stretch/>
        </p:blipFill>
        <p:spPr>
          <a:xfrm>
            <a:off x="114480" y="2895480"/>
            <a:ext cx="8915400" cy="1414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78280" y="1447920"/>
            <a:ext cx="67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 : Monochorionic, Mono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1640" y="457200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isks:  cord problems, high mortality r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wins" descr=""/>
          <p:cNvPicPr/>
          <p:nvPr/>
        </p:nvPicPr>
        <p:blipFill>
          <a:blip r:embed="rId1"/>
          <a:stretch/>
        </p:blipFill>
        <p:spPr>
          <a:xfrm>
            <a:off x="-4667400" y="-57240"/>
            <a:ext cx="2714760" cy="3762360"/>
          </a:xfrm>
          <a:prstGeom prst="rect">
            <a:avLst/>
          </a:prstGeom>
          <a:ln w="0">
            <a:noFill/>
          </a:ln>
        </p:spPr>
      </p:pic>
      <p:pic>
        <p:nvPicPr>
          <p:cNvPr id="159" name="EngHome" descr=""/>
          <p:cNvPicPr/>
          <p:nvPr/>
        </p:nvPicPr>
        <p:blipFill>
          <a:blip r:embed="rId2"/>
          <a:stretch/>
        </p:blipFill>
        <p:spPr>
          <a:xfrm>
            <a:off x="-4667400" y="6091200"/>
            <a:ext cx="2543400" cy="1981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4668120" y="-2274840"/>
            <a:ext cx="232560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1142640" tIns="914040" bIns="914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4442040" y="8073360"/>
            <a:ext cx="26892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Eng Bunker’s home in Surry County, NC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cc9900"/>
                </a:solidFill>
                <a:uFillTx/>
                <a:latin typeface="Arial"/>
                <a:ea typeface="Times New Roman"/>
                <a:hlinkClick r:id="rId3"/>
              </a:rPr>
              <a:t>Return to Famous People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cc9900"/>
                </a:solidFill>
                <a:uFillTx/>
                <a:latin typeface="Arial"/>
                <a:ea typeface="Times New Roman"/>
                <a:hlinkClick r:id="rId4"/>
              </a:rPr>
              <a:t>Home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Modern, healthy, living 15-year-old conjoined twins Abigail and Brittany Hensel. (2005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1600200"/>
            <a:ext cx="2362320" cy="3110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joined Tw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/200,000 bir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lf born stillbor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likely female ~75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oracopagus most comm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cental vascular anastomo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ccurs in only 5-15% of monochorionic, diamniotic twins despite ~85% with vascular anastomo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es not occur in dichorionic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estingly, does not occur in monochorionic, monoamniotic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04800" y="2209680"/>
            <a:ext cx="6134400" cy="2738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scular Anastomo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x: discordant growth by ultrasou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mniotic sacs and umbilical cor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gle placen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nical Sxs: rapid uterine growth, changes in fetal movement, preterm labor, postnatal hemoglobin difference of &gt;5 g/dl between the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ipient twi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olycyth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ervol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olyhydramn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HF, hydrop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erbilirubin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igh birthweigh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or twin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An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ovol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Oligohydramn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oglyc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tuck twin” fetus appears stuck due to amnion adhering to fet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Decreased urine outpu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ower birthweigh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stetrical Manag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ial removal of amniotic fluid for polyhydramnios if &gt; 20 weeks gest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te an opening in amnion between the two fetuses to allow fluid exchan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ser ablation of placental vascular anastomoses (high complication rat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lective reduction of donor twin if high risk of death for both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gn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inatal death rate is 9-11 times the rate for singlet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amniotic twins have the highest mortality rate mostly because of cord entangl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zygotic twins have a mortality and morbidity rate that is 2-3 times that of dizygotic twin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cid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ontaneous twins ~1 in 80 pregnan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iplets ~1 in 8000 pregnan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nozygotic twins- 3 to 5 per 1000 pregnancies with uniform frequency worldwi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zygotic twins- variable incidence (4-50 per 1000 pregnancies) by locale, race, maternal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ernal Ris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ypereme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em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I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stational diabe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tpartum hemorrh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centa prev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etal Ris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genital anomal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wth restriction of discordant tw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tal demise (death of one fetus puts other at risk for DI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mature deliv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win: malpresentation, in utero hypoxia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yaline membrane dis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rebral pals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que Risk of CP in Multiple Ges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gle fetal demi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Zygosity and chorionicity (monochorioni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wth restri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bryonic dea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de and circumstances of deliv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tal inflamm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s of Tw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zygotic (2/3): dichorionic (2 placenta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implant sites are near, placentas may fuse yet there are no vascular conne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zygotic (1/3): dichorionic, monochorionic, diamniotic, monoamniot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sed or separate placent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 risk for 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4829040" cy="5096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709680" y="609480"/>
            <a:ext cx="21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st comm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ngl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90960" y="1905120"/>
            <a:ext cx="24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ar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Mono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ngl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8600" y="2971800"/>
            <a:ext cx="199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parate or fus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7240" y="4114800"/>
            <a:ext cx="2512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 Mono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sed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parat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640" y="152388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ZYGOTI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280" y="48006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ZYGOTI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1088" t="35048" r="1088" b="41031"/>
          <a:stretch/>
        </p:blipFill>
        <p:spPr>
          <a:xfrm>
            <a:off x="838080" y="2465280"/>
            <a:ext cx="7467840" cy="1927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5600" y="1447920"/>
            <a:ext cx="57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: Dichorionic, Di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0" r="1088" b="79915"/>
          <a:stretch/>
        </p:blipFill>
        <p:spPr>
          <a:xfrm>
            <a:off x="266760" y="2362320"/>
            <a:ext cx="8610480" cy="1846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55840" y="1295280"/>
            <a:ext cx="62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: Monochorionic, Di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40240" y="4303800"/>
            <a:ext cx="4956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ghest risk of twin-twin transfu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7:27:41Z</dcterms:created>
  <dc:creator>Priscilla Joe</dc:creator>
  <dc:description/>
  <dc:language>en-US</dc:language>
  <cp:lastModifiedBy>Health Services Department</cp:lastModifiedBy>
  <dcterms:modified xsi:type="dcterms:W3CDTF">2010-06-12T08:33:44Z</dcterms:modified>
  <cp:revision>27</cp:revision>
  <dc:subject/>
  <dc:title>MULTIPLE GESTATION</dc:title>
</cp:coreProperties>
</file>